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TYPE.WAV" ContentType="audio/x-wav"/>
  <Override PartName="/ppt/media/image8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1D2B-B2C6-4B5F-9051-A2F7482315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9CEB-DBF5-4804-8F74-7DE00C80D9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43E-CE97-4CFA-8A26-9A019D42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F2D-85CD-45A2-95BF-C175938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AA9-23DF-4B3C-AC04-FBC26925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89D-D0D4-4AE8-B48D-E90A33C6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3EFD-3429-431D-961C-3D746E5D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3136-0C74-479A-8B35-6F5D8441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B4AC-9E8A-43AA-88F7-A4AB11BC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208D-FAC1-4DB7-86E0-EB4F553D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A6A9-5DFF-44A8-8B4C-D166D718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EC66-BF99-4B85-9A02-630AFF68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BF73-9B52-4392-9832-0319D935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75E-DC71-4CDA-A037-14AD681E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4EE8-D7DE-44C3-AEED-E499E236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CA96-FC0B-4AA2-B34E-5F175AD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636-4653-45D0-ABD2-FAA0FA0C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B595-750C-4F84-9CD3-A252099F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9F8F-8186-4C6D-A5CC-88E5802D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24E8-D808-40F0-84CA-5971587B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EE0E-24E8-4287-9A7D-11AC929A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44054-2817-44B5-BEEF-D25157B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2E8E-0533-4BD3-965A-69FF7936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BFCE-31C9-4402-B5FF-14738CD8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DFB-1DD7-4434-BF39-9623D1C1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EF13-2807-42D6-8B03-027F1555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D75C-3BCE-40A4-85C3-C4EE0D3E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AF92-4537-4E39-8494-879D3F9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DC9C-061E-474C-B9B3-44B2C0C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C586-647C-4916-A39A-063B0070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5FFF-6894-40BF-B449-571BCDDD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4C75-8BD1-47C7-A2C0-94140552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8111-448C-4176-8666-222F108F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A487-7E17-4580-9900-6109333D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A84A-B070-466E-9D44-6BCA185D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A0F-6828-4DE7-9A82-D93CD62C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28EAE-CCD7-43FE-BF01-D9C390B7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DEE3C-9DAF-46B5-A7DA-B701FBA6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93A2-4CF3-4B19-B7AA-CA115EA4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5E654-3228-4DD0-A407-6755096F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A34A-0A71-46F6-81A6-E9AC044B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5AB8E-90D1-49D6-87EA-84636480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6B2CE-D452-4A80-A4F8-3C6F5DC5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E396-2632-4DB5-944F-41BAC599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760E-05F2-4E39-9E93-B1625CE7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68BAD-B309-466C-90FB-33BC5DC4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4EE-19C3-48B2-8534-81676F57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D05F0-C4D6-41A9-8F1B-BFFD410C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05B4-3FAF-4242-B847-57BEEAEE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1ADBB-C955-48E6-A2ED-87549CA7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78126-207E-41EA-8E85-D83B3866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C0886-D27D-46EB-97B2-9E58B28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B1027-85FB-4FEE-A5CB-2DDD87C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A3525-B22B-4580-8DB4-8BF1B079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F3EB-BE62-4D07-B402-8FA865BC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687D-EB9D-45A8-8DF6-6FED2303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9B5B4-E160-464C-9088-5DF196E3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3F1-5561-4589-95C3-733F97D6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F2DC-733B-4623-AD26-D7068D44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D4611-99C8-4722-A333-74C94C72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1A03-8C4A-4A51-91A7-967E4BD2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C270-C939-427C-B078-1D98285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C92CB-2561-4550-A8B1-F787F51B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E21EE-6E8F-41AE-ADD4-6271A6E6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3C39-8CF5-4095-865C-AD5987A2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EE5FC-6257-43D4-A756-F1194805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9497B-EEA9-43F1-9EBB-F785C58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4100-B6D0-4F06-8549-C11871E3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7E4-5C3A-45A5-8D63-7D785CE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2711D-F665-4914-99D0-CC170BB0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D3366-543E-4CD3-BDDE-491C0833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8696-F604-4349-B207-E087B135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DDA-9037-412C-B036-9AD58C5D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986-28D5-46C9-8646-439CE4A4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4B38-E6E1-45EB-A274-BA8F1C87706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34B8-514E-4467-A1DB-E245964FB91D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4589-A510-4049-B3DF-9DC057601A0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30A1-F1BC-4458-AEDF-025BC3C50112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C35-05D1-442B-8B44-EA15A0C14D4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973A-72B1-4789-9F39-7811B047FB49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ptcloud.ru/obzh/chs_prirodnogo_tehnogennogo_harakter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17520" y="360360"/>
            <a:ext cx="85820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6"/>
          <p:cNvSpPr/>
          <p:nvPr/>
        </p:nvSpPr>
        <p:spPr>
          <a:xfrm>
            <a:off x="324000" y="47628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скорости развития ЧС делят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ывные, внезапные, скоротечные, плав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24000" y="458136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масштабу распространения ЧС бываю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кальные,  местные, территориальные, региональные,  федеральные, трансгранич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1557360"/>
            <a:ext cx="83516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По возможности предотвращ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избежные (природные),  предотвращаемые (техногенные, социальн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95280" y="292428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 ведомственной принадлежности: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 промышленности,  строительстве, на транспорте, в жилищно-коммунальной сфере, сельском, лесном хозяйстве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4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9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32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642960"/>
          <a:ext cx="9144000" cy="601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острадав-ш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ы условия 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-ный уще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распрас-  транения 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5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0 до 3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тыс. до 5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города, района, н.пун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-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50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300 до 500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 тыс. до 500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до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тыс. до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гранич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2" descr=""/>
          <p:cNvPicPr/>
          <p:nvPr/>
        </p:nvPicPr>
        <p:blipFill>
          <a:blip r:embed="rId1"/>
          <a:stretch/>
        </p:blipFill>
        <p:spPr>
          <a:xfrm>
            <a:off x="676440" y="225360"/>
            <a:ext cx="7785000" cy="1049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техноге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395280" y="2924280"/>
          <a:ext cx="39607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924280"/>
                    <a:ext cx="3960720" cy="34574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2" name="Picture 5" descr="207894"/>
          <p:cNvPicPr/>
          <p:nvPr/>
        </p:nvPicPr>
        <p:blipFill>
          <a:blip r:embed="rId4"/>
          <a:stretch/>
        </p:blipFill>
        <p:spPr>
          <a:xfrm>
            <a:off x="4788000" y="2924280"/>
            <a:ext cx="4032000" cy="3457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0" y="0"/>
            <a:ext cx="9128160" cy="620640"/>
          </a:xfrm>
          <a:prstGeom prst="rect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резвычайные ситуации 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770040"/>
            <a:ext cx="2195640" cy="57600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нспортные ава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0" y="1484280"/>
            <a:ext cx="2195640" cy="1152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биолог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0" y="2744640"/>
            <a:ext cx="2195640" cy="936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на очистных сооружения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0" y="3789360"/>
            <a:ext cx="2195640" cy="51444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жары и взры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0" y="4383000"/>
            <a:ext cx="2195640" cy="11383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незапное обрушение зданий и сооруж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8"/>
          <p:cNvSpPr/>
          <p:nvPr/>
        </p:nvSpPr>
        <p:spPr>
          <a:xfrm>
            <a:off x="6931080" y="1052640"/>
            <a:ext cx="21970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хим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6915240" y="242100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радиоактив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915240" y="378936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энергетических систем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6915240" y="5157720"/>
            <a:ext cx="2195280" cy="120168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коммунальных системах жизнеобеспе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0" y="5732640"/>
            <a:ext cx="2195640" cy="936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Гидродинамические аварии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4"/>
          <p:cNvSpPr/>
          <p:nvPr/>
        </p:nvSpPr>
        <p:spPr>
          <a:xfrm>
            <a:off x="2484360" y="620640"/>
            <a:ext cx="22320" cy="56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6516720" y="620640"/>
            <a:ext cx="0" cy="511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Прямая со стрелкой 18"/>
          <p:cNvCxnSpPr>
            <a:endCxn id="294" idx="3"/>
          </p:cNvCxnSpPr>
          <p:nvPr/>
        </p:nvCxnSpPr>
        <p:spPr>
          <a:xfrm flipH="1">
            <a:off x="2195280" y="105696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2112840" y="313380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3"/>
          <a:stretch/>
        </p:blipFill>
        <p:spPr>
          <a:xfrm>
            <a:off x="2112840" y="397656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4"/>
          <a:stretch/>
        </p:blipFill>
        <p:spPr>
          <a:xfrm>
            <a:off x="2133720" y="48736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135160" y="6200640"/>
            <a:ext cx="371520" cy="15876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21"/>
          <p:cNvCxnSpPr/>
          <p:nvPr/>
        </p:nvCxnSpPr>
        <p:spPr>
          <a:xfrm>
            <a:off x="6516360" y="1639440"/>
            <a:ext cx="415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6531120" y="565308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6531120" y="43038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6531120" y="29592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2627280" y="770040"/>
            <a:ext cx="1728720" cy="1093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2600280" y="1981080"/>
            <a:ext cx="1733760" cy="1171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2627280" y="3213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2627280" y="321300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27280" y="4452840"/>
            <a:ext cx="1728720" cy="1157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577960" y="5616720"/>
            <a:ext cx="1704960" cy="113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4830840" y="770040"/>
            <a:ext cx="1611360" cy="1211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4830840" y="220500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4827600" y="3573360"/>
            <a:ext cx="1612800" cy="1289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4851360" y="5248440"/>
            <a:ext cx="1590840" cy="119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17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 развития ЧС</a:t>
            </a:r>
            <a:br>
              <a:rPr sz="28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копление отклонений от нормального состояния или процесса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явление фактора неустойчивости или «аварийная ситуация» (видны  предпосылки, есть реальная возможность предотвратить или  уменьшить ЧС)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цесс чрезвычайного события (происходит воздействие на людей и окружающую среду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ход аварии за пределы территории объекта и действие остаточных факторов поражения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Ликвидация последствий аварии или  стихийного бедствия (поисково-спасательные, аварийно-восстановительные работы)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3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природного характе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2143459841"/>
          <p:cNvPicPr/>
          <p:nvPr/>
        </p:nvPicPr>
        <p:blipFill>
          <a:blip r:embed="rId1"/>
          <a:stretch/>
        </p:blipFill>
        <p:spPr>
          <a:xfrm>
            <a:off x="4572000" y="2781360"/>
            <a:ext cx="4176720" cy="381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30" name="Picture 4" descr="a3199732-1"/>
          <p:cNvPicPr/>
          <p:nvPr/>
        </p:nvPicPr>
        <p:blipFill>
          <a:blip r:embed="rId2"/>
          <a:stretch/>
        </p:blipFill>
        <p:spPr>
          <a:xfrm>
            <a:off x="324000" y="2781360"/>
            <a:ext cx="38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85480" y="333000"/>
            <a:ext cx="86072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вычайные ситуации  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физ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летрясения, извержение вулка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Ге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олзни, сели, обвалы, осыпи, лав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ологиче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агрометеорологические) опасные явления  (бури, смерчи, ураганы, град, сильный дождь, снег, мороз, метель, жара, туман, засух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ие 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цунами, шторм, тайфуны, напор ль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воднения, низкий уровень воды, ветровые наг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ые пожар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есные, степные, торфяные, подзем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.</a:t>
            </a:r>
            <a:br>
              <a:rPr sz="4600"/>
            </a:br>
            <a:r>
              <a:rPr b="1" i="1" lang="ru-RU" sz="4000" spc="-1" strike="noStrike">
                <a:solidFill>
                  <a:srgbClr val="ffffff"/>
                </a:solidFill>
                <a:latin typeface="Franklin Gothic Book"/>
              </a:rPr>
              <a:t>1. Найдите ошиб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К ЧС  техногенного характера относятся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а) авария на  трубопроводе;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б) разрушение озонового слоя;        в) теракт в самолете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) прорыв плотины на ГЭ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2. Распределите ЧС по порядку, в зависимости от скорости их разви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внезап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плав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скоротеч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взрывные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3. Что не относится к классификации ЧС по масштабам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ерритори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лок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административ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федераль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МЫЕ ВОПРОСЫ</a:t>
            </a:r>
            <a:br>
              <a:rPr sz="4600"/>
            </a:b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резвычайные ситуации. Общая классификация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лассификация ЧС техногенного характера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лассификация ЧС природного характ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4. При какой ЧС поражающие факторы выходят за пределы двух субъектов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рансгранич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региональ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федера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5.  В какой фазе развития ЧС происходит процесс чрезвычайного собы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1;     б) 2;    в) 3     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. Конспек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Ответы на вопро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. Посмотреть видео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s://pptcloud.ru/obzh/chs_prirodnogo_tehnogennogo_haraktera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Домашнее задание сдать до 21.10.2020</a:t>
            </a:r>
            <a:br>
              <a:rPr sz="5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4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Franklin Gothic Book"/>
              </a:rPr>
              <a:t>      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чрезвычайных ситуац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1557360"/>
            <a:ext cx="8496360" cy="577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резвычайная ситуаци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(ЧС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это нарушение нормальных условий жизнедеятельности людей на определенной территории, вызванное аварией, катастрофой, стихийным или экологическим бедствием, в результате которых возникает угроза жизни и здоровью, наносится ущерб имуществу населения, народному хозяйству и окружающей природно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8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 причин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амеренные (война, диверсия) и непреднамеренные    (стихийные  бедствия)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788000" y="2357280"/>
            <a:ext cx="4268520" cy="400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howImage122"/>
          <p:cNvPicPr/>
          <p:nvPr/>
        </p:nvPicPr>
        <p:blipFill>
          <a:blip r:embed="rId2"/>
          <a:stretch/>
        </p:blipFill>
        <p:spPr>
          <a:xfrm>
            <a:off x="250920" y="220500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a07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asi14"/>
          <p:cNvPicPr/>
          <p:nvPr/>
        </p:nvPicPr>
        <p:blipFill>
          <a:blip r:embed="rId2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250920" y="18900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о природ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иродные - стихийные бедствия (землетрясения, наводнения, цунами,  сели, оползни,  лавины, снежные заносы и д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ехногенные аварии и катастрофы (взрывы, пожары, выбросы ядовитых и радиоактивных веществ, обрушение зданий, аварии на системах жизнеобеспечения и др.)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-god-nazad-proizoshla-avarija-na-chernobylskoj-aes-foto_19003_s__6.jpg"/>
          <p:cNvPicPr/>
          <p:nvPr/>
        </p:nvPicPr>
        <p:blipFill>
          <a:blip r:embed="rId2"/>
          <a:stretch/>
        </p:blipFill>
        <p:spPr>
          <a:xfrm>
            <a:off x="4716360" y="2060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нтропогенные - являются следствием ошибочных действий людей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Picture 4" descr="26BR6967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экологические - аномальные изменения состояния природной среды (качественное изменение биосферы, заражение почвы, воды, атмосферы, нарушение озонового слоя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miracle2-1-big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i-main-pic" descr="Картинка 5 из 4023"/>
          <p:cNvPicPr/>
          <p:nvPr/>
        </p:nvPicPr>
        <p:blipFill>
          <a:blip r:embed="rId2"/>
          <a:stretch/>
        </p:blipFill>
        <p:spPr>
          <a:xfrm>
            <a:off x="4932360" y="227664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социальные (мошенничество, бандитизм, разбой, террор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3" descr="4"/>
          <p:cNvPicPr/>
          <p:nvPr/>
        </p:nvPicPr>
        <p:blipFill>
          <a:blip r:embed="rId1"/>
          <a:stretch/>
        </p:blipFill>
        <p:spPr>
          <a:xfrm>
            <a:off x="250920" y="1889280"/>
            <a:ext cx="5184720" cy="4968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40000" cy="2924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168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2:12:07Z</dcterms:created>
  <dc:creator>user</dc:creator>
  <dc:description/>
  <dc:language>en-US</dc:language>
  <cp:lastModifiedBy>Зам</cp:lastModifiedBy>
  <dcterms:modified xsi:type="dcterms:W3CDTF">2020-10-16T14:18:29Z</dcterms:modified>
  <cp:revision>194</cp:revision>
  <dc:subject/>
  <dc:title>Чрезвычайные ситуациии</dc:title>
</cp:coreProperties>
</file>